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E15-874B-4370-A7D9-A3E0465A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042-845B-49A9-A415-E6D6FB7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742-F09E-4740-AA55-E12563AD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57F-7148-49DF-A59E-9CD7973D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1B3-4797-42C4-A750-4268EFA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72ED-B3CB-43CF-BB8C-9F6D0271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7C86-58D4-4BD6-B593-3E742304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714C-2E79-499E-B3DC-E3CA987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0636-2C75-4611-9372-6F86B30B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F7AD-F042-4E75-8C73-2C52AC3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FD0-E1C6-40B0-AFC8-3583503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D0EF-883A-4C19-916B-1C0142EC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4B3B-E1BA-49CC-95C8-4EB4496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F54C-85A4-4225-BDAB-85509F6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4803-A75D-4C59-B316-D7CD9A14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27ED-AB93-4F7F-9781-077F9495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09CA-AFFA-4802-8855-9D7D651A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B35-3CEE-462D-9C29-58D41EDD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C414-C06E-410C-8911-CDD642AC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853-F5BE-4F1C-9035-FBD45A17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C37-82B9-4CB1-8F0C-A0B4A9B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D39-90FA-4DFD-9B07-64D0CD62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C75-1E67-4E18-B79C-8A84E80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CE5-E6E1-415E-8E07-C3F46AE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3C79-DB16-4BC3-9DEB-D40462E2F7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0E67-3B72-4A44-86AB-0AC0C99EA7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iXo78XPdKU&amp;feature=relate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WQgktBR6-w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Public Service Announce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 awareness campa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se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and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itical campaign ads a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 the decisions made for and by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The Offic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shows you how it’s do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The More You Kn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Office-Cast-1024x786"/>
          <p:cNvPicPr/>
          <p:nvPr/>
        </p:nvPicPr>
        <p:blipFill>
          <a:blip r:embed="rId2"/>
          <a:stretch/>
        </p:blipFill>
        <p:spPr>
          <a:xfrm>
            <a:off x="3809880" y="2666880"/>
            <a:ext cx="51818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Star Wa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gives us all a life less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moking is not grown 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tarwars"/>
          <p:cNvPicPr/>
          <p:nvPr/>
        </p:nvPicPr>
        <p:blipFill>
          <a:blip r:embed="rId2"/>
          <a:stretch/>
        </p:blipFill>
        <p:spPr>
          <a:xfrm>
            <a:off x="4713120" y="1719360"/>
            <a:ext cx="390708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k, for real this tim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r Mad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men's Voices. Women's Vo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m Br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flags mean busi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few examples from your peer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ing Rock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6:01:50Z</dcterms:created>
  <dc:creator>Owner</dc:creator>
  <dc:description/>
  <dc:language>en-US</dc:language>
  <cp:lastModifiedBy>hberndt</cp:lastModifiedBy>
  <dcterms:modified xsi:type="dcterms:W3CDTF">2010-03-16T15:20:27Z</dcterms:modified>
  <cp:revision>7</cp:revision>
  <dc:subject/>
  <dc:title>Public Service Announcements</dc:title>
</cp:coreProperties>
</file>